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C149-7933-496C-82DF-8BA135B91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37C7-5EAB-4342-A16C-1381FD5F3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D7B8-FEAF-468D-88CE-F70BAFA4B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F71F-2C46-4E4A-8E2E-AAA41D346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9A9A-8966-4CF7-ABF8-1EF8C05A0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12A7-D3E8-4B31-9760-A12F12C9D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1CF2-E9CA-4358-B3A7-69A7B417A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DC22-3264-4B74-AB06-1389363A2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DA01-112D-426B-8754-7D3811C49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3AEC-067A-4140-AC64-83AD88A63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2CB4-25ED-4948-8F18-B9737F2E8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1550-42CD-4A58-B4DF-19FCA69AA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9F20-2A8F-42FF-A45E-24511D814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3A28-4F90-4164-8084-2E3D3457C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EAC8-DB94-4609-8F4E-3689DC969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16AD-09BC-4D61-9B95-EFB44872D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CE33-36E2-4BEC-AD1A-43B9F1401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2EC4-DFE0-4571-B4E9-FAF63CBF6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DBC5-2CC0-461E-9957-58DF5B1D7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15AE-0C71-4B14-BE88-C2E038576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E2E6-EDAC-4F9D-AB1A-51EAF27BD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5395-7D67-4FE2-9B0F-4FA25AA2A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6C49-8904-471F-9ABB-8AA36F79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C0D9-01E9-419D-8B15-A1FD88101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111A-FED6-4509-BA8F-3B4839025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B685-33A1-4EC7-94CE-37FF7317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ED30-E807-4A8A-94C0-A74D8FCF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4CA2-ABA7-4CED-B2F9-17C74754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39FF-E5E7-4ABF-AD7A-BBB7DE6E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76AC-DC15-4DF1-94CB-056CD09A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90FA-2B08-4DEC-B0C9-9ABB3C33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BDA8-3184-4CAE-8B5F-C1BAA244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1277-5EE1-4FBC-B1F1-067FB6B9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5975-4289-4BF8-B05B-9C4C64627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wilberforce signature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370320" y="3459240"/>
            <a:ext cx="2504880" cy="606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>
            <a:hlinkClick r:id="" action="ppaction://hlinkshowjump?jump=nextslide"/>
          </p:cNvPr>
          <p:cNvSpPr/>
          <p:nvPr/>
        </p:nvSpPr>
        <p:spPr>
          <a:xfrm>
            <a:off x="3360600" y="50547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Religion was very important to William. He wrote a book about religion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6477120" y="6235560"/>
            <a:ext cx="251460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3000" fill="hold"/>
                                        <p:tgtEl>
                                          <p:spTgt spid="9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He did like reading, but there is something else this book can tell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04920" y="3986280"/>
            <a:ext cx="851508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b2a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A campaign is when people talk about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70000" y="4952880"/>
            <a:ext cx="855000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b) A campaign is when people work together to try and achieve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Wilberforce was the leader of a very important campa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629400" y="623880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a9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3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Talking is important but a campaign is more than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629400" y="623556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a9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3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04920" y="3886200"/>
            <a:ext cx="8458200" cy="106884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campaigned to stop people being cruel to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5257800"/>
            <a:ext cx="845820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William campaign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7100" t="10951" r="17619" b="0"/>
          <a:stretch/>
        </p:blipFill>
        <p:spPr>
          <a:xfrm>
            <a:off x="5334120" y="304920"/>
            <a:ext cx="3504960" cy="33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-828720" y="647856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04920" y="34290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led the campaign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629400" y="624852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3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920" y="3429000"/>
            <a:ext cx="8534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did campaign to stop people being cruel to animals, but that is not the main thing he wanted to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04920" y="4665600"/>
            <a:ext cx="838188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born in Hu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70000" y="5504040"/>
            <a:ext cx="84168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help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4920" y="373392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e remember William Wilberforce because he led a long campaign which made slavery s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>
            <a:hlinkClick r:id="rId1" action="ppaction://hlinksldjump"/>
          </p:cNvPr>
          <p:cNvSpPr/>
          <p:nvPr/>
        </p:nvSpPr>
        <p:spPr>
          <a:xfrm>
            <a:off x="0" y="0"/>
            <a:ext cx="8991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57240">
            <a:solidFill>
              <a:srgbClr val="00b2a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, always click inside the answer box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wilberforce signature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352680" y="4038480"/>
            <a:ext cx="2505240" cy="606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>
            <a:hlinkClick r:id="" action="ppaction://hlinkshowjump?jump=nextslide"/>
          </p:cNvPr>
          <p:cNvSpPr/>
          <p:nvPr/>
        </p:nvSpPr>
        <p:spPr>
          <a:xfrm>
            <a:off x="3352680" y="47242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3"/>
          <a:stretch/>
        </p:blipFill>
        <p:spPr>
          <a:xfrm rot="1847400">
            <a:off x="1050480" y="2792520"/>
            <a:ext cx="153684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-828720" y="6526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ilberforce was born in Hull but that is not the main reason we remembe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3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>
            <a:hlinkClick r:id="rId2" action="ppaction://hlinksldjump"/>
          </p:cNvPr>
          <p:cNvSpPr/>
          <p:nvPr/>
        </p:nvSpPr>
        <p:spPr>
          <a:xfrm>
            <a:off x="685800" y="518148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Because he was born in Hu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>
            <a:hlinkClick r:id="rId3" action="ppaction://hlinksldjump"/>
          </p:cNvPr>
          <p:cNvSpPr/>
          <p:nvPr/>
        </p:nvSpPr>
        <p:spPr>
          <a:xfrm>
            <a:off x="685800" y="419112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a) Because he was born in this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-900000" y="65041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3962520"/>
            <a:ext cx="80773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here over 200 years ago. He lived here until he was nine years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-828720" y="64897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09480" y="3962520"/>
            <a:ext cx="807732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in Hull but there is another reas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>
            <a:hlinkClick r:id="rId2" action="ppaction://hlinksldjump"/>
          </p:cNvPr>
          <p:cNvSpPr/>
          <p:nvPr/>
        </p:nvSpPr>
        <p:spPr>
          <a:xfrm>
            <a:off x="6781680" y="6248520"/>
            <a:ext cx="221004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>
            <a:hlinkClick r:id="rId1" action="ppaction://hlinksldjump"/>
          </p:cNvPr>
          <p:cNvSpPr/>
          <p:nvPr/>
        </p:nvSpPr>
        <p:spPr>
          <a:xfrm>
            <a:off x="304920" y="4525920"/>
            <a:ext cx="84582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good at giving speec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>
            <a:hlinkClick r:id="rId2" action="ppaction://hlinksldjump"/>
          </p:cNvPr>
          <p:cNvSpPr/>
          <p:nvPr/>
        </p:nvSpPr>
        <p:spPr>
          <a:xfrm>
            <a:off x="345960" y="5334120"/>
            <a:ext cx="841716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wanted to help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ww1"/>
          <p:cNvPicPr/>
          <p:nvPr/>
        </p:nvPicPr>
        <p:blipFill>
          <a:blip r:embed="rId3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thought he could help lots of people if he was a Member of Parlia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3000" fill="hold"/>
                                        <p:tgtEl>
                                          <p:spTgt spid="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as very good at giving speeches, but that is not the r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>
            <a:hlinkClick r:id="rId2" action="ppaction://hlinksldjump"/>
          </p:cNvPr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>
            <a:hlinkClick r:id="rId1" action="ppaction://hlinksldjump"/>
          </p:cNvPr>
          <p:cNvSpPr/>
          <p:nvPr/>
        </p:nvSpPr>
        <p:spPr>
          <a:xfrm>
            <a:off x="304920" y="4525920"/>
            <a:ext cx="822960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66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It tells us he liked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>
            <a:hlinkClick r:id="rId2" action="ppaction://hlinksldjump"/>
          </p:cNvPr>
          <p:cNvSpPr/>
          <p:nvPr/>
        </p:nvSpPr>
        <p:spPr>
          <a:xfrm>
            <a:off x="270000" y="5450040"/>
            <a:ext cx="826452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b) It tells us </a:t>
            </a:r>
            <a:r>
              <a:rPr b="0" lang="en-US" sz="3200" spc="-1" strike="noStrike">
                <a:solidFill>
                  <a:srgbClr val="ff6666"/>
                </a:solidFill>
                <a:latin typeface="ヒラギノ角ゴ Pro W3"/>
              </a:rPr>
              <a:t>r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eligion was important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Wilberforce Family Bible2"/>
          <p:cNvPicPr/>
          <p:nvPr/>
        </p:nvPicPr>
        <p:blipFill>
          <a:blip r:embed="rId3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20:10:33Z</dcterms:created>
  <dc:creator>Nick Cass</dc:creator>
  <dc:description/>
  <dc:language>en-US</dc:language>
  <cp:lastModifiedBy>Bartley, Izzy</cp:lastModifiedBy>
  <dcterms:modified xsi:type="dcterms:W3CDTF">2018-03-28T10:14:20Z</dcterms:modified>
  <cp:revision>22</cp:revision>
  <dc:subject/>
  <dc:title>Why Do We Remember William Wilberforce?</dc:title>
</cp:coreProperties>
</file>